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CFD-CCB0-493B-8954-9F7C3BDC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AB9-CF26-49FE-A5AF-8F44B0B0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A37-59E6-48BB-9BE4-6FB55D3D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37F-57F0-43FB-891F-5F678CE0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0007-26B9-42EC-8F93-DA7ECD30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9D9C-AB31-4B68-929F-41B6AE67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36CE-B1AB-43A0-BC1C-A8D2049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F089-CFD3-45AF-806D-F9B709DF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5733-9261-4B10-B4E5-601AACB0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3A3A-6FB4-485A-BF79-CDE2394F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04AA-3778-4BC6-9976-8EAEA37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1C4-7ED7-4F18-B2A6-14311334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BBA0-6993-4694-BAAF-24A51F7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E91F-5ECE-4538-9AE9-39DA0A9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FBF-0BAB-4C8B-8FB5-B160A78B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C5FD-6A28-4802-AA56-ADD5F3D1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E466-85DD-4F6B-AC05-DB0CC919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19AA-4206-4E4C-B100-F8E330BF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C433-9263-45D0-8633-CD6FB0E9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CF73-302F-468B-9477-EB81845F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F6CD-41DB-48A8-AE84-33622C2F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4283-BA0E-40F4-ADAC-066C3C71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7CF-2D00-4001-A61D-E2BB4A3C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DC98-DB65-4D82-A59D-B00BF4D5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D0C8-B837-4860-A648-6DB95586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397E-184E-436E-8A71-F15D8927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0B33-6CA4-4387-869B-87879DF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CE5F-8C14-43EE-AB9A-C225D869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A8B6-C857-4913-ADC4-DDF2D985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CB70-7348-4CE1-94DA-B080026C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1C11E-7A35-4517-8ABF-2925FAFA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3F44-7CE9-4821-88B4-5739C48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856E-C832-4FC2-A94B-37FAA307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614-9E8B-47E5-9C2F-75074B35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DC6A-FA58-49D6-AF07-DBC9968F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80C7-9AC1-4767-B40E-1C1FF064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D485-D540-4D4D-BF16-CEB2AB0D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BBCB-FA91-4757-B153-6B92A53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9A66-E14B-4982-A8F6-D36131E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4E30-253C-4B7A-9D27-DF68D43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01168-6F70-47F8-B48C-BECB7AB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273F-BEEC-42C2-902F-6EA92F91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1D3C-F1D7-4565-9588-290FE979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09D-4F9D-4605-B397-51D06215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F3A-45FE-4CCE-89A4-F0A7FF32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643-6B27-405F-8E2A-5171581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CB3-E504-402F-8A90-426709C6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F90-D3BD-4639-8730-B36006CE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D67D-398E-477D-8051-782E546812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240B-2CEF-42A3-B7EF-871A2551F2C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4242-A872-453B-A21F-C97C3244BA7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F87D-114E-4B22-9547-8878CC4ECC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390600" y="2279520"/>
            <a:ext cx="8521560" cy="1219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PUBLIC MANA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MOTIVATED BY GOALS, NOT BY RULES &amp; REGUL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REDEFINES CLIENTS AS CUSTOMERS AND OFFERS THEM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EVENT PROBLEMS BEFORE THESE EMERGE, RATHER THAN OFFERING SERVICES AFTERWAR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PUBLIC MANA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STRESS ON PROFIT, EARN MORE, NOT SIMPLY SPENDING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DECENTRALIZE AUTHORITY &amp; PROMOTE PARTICIPATIVE MANAG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EFER MARKET MECHANISMS TO BUREAUCRATIC MECHANIS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INCLUSIVE IN APPROACH – PUBLIC, PRIVATE, VOLUNTARY SECTORS – IN SOLVING PROBLEMS OF THE COMMUN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ATION REFERS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 PLAN OF 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ENSU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ULFILMENT OF PURPOSE OR PURPOS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WHIC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GROUP OF INDIVIDUAL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AS SET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ALIZATION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OWARDS THE ATTAIN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WHICH THEY 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LLECTIVELY BEND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IR ENER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IDING WOR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ULATE STANDARD PRACT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 DECISIONS DOWNWARD, UPWARD, CROSSW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COMMUNICATION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I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INCI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IERARC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AN OF CONTR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ITY OF COMM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FF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  PLAN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ORGANIZ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 STAFF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DIREC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COORDINA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REPOR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BUDGE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IVIL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ION GOVERN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ATE GOVER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X WEBER’S THE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PARATION OF OFFICE &amp; ITS INCUMBENT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ION BY MERI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XED REMUNERATION OF ITS OFFICIAL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FICIALS SUBJECT TO DISCIPLINE &amp; CONTROL WHILE PERFORMING OFFICIAL WOR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ERARCHY OF OFFIC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CATION OF ACTIVITIES OF ORGANISATION NEEDED TO FULFIL ITS OBJECTIV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CATION OF AUTHORITY REQUIRED TO DISCHARGE ACTIVITI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ICT ADHERENCE TO RUL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FICIALS IMPERSON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E OCCUPATION OF OFFICIAL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ITUTES A CARE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UBLIC ADMINIST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TAKING OVER OF THE EAST INDIA COMPAN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GOVERNMENT OF INDIA ACT, 191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MERGENCE OF ADMINISTRATIVE ST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WELFARE ORI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EW PREMI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CIVIL SERVANTS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BENEVOLENT SOCIAL GUARDI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FLESSLY SEEK THE WELFARE OF THE PEOPLE, EVEN WHEN THE PEOPLE THEMSELVES DO NOT KNOW WHAT IS IN THEIR BEST INTER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LTERNATE VIE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VIL SERVANTS PURSUE SELF-INTEREST RATHER THAN COMMON GO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REATE OPPORTUNITIES FOR RENT SEEK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XIMISE PERSONAL UT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UREAUCRACY – NEW TREN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ITIZENS AS CUSTO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NCE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BLIC CHOICE THE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UREAUCRATIC ACCOUNTABILITY ENSURING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QUALITY OF SERVI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LIMINATION OF INEFFICIENCY AND ABUSE OF DISCRETIONERY POWE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UREAUCRACY – NEW TREN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OPENNESS AND TRANSPARENCY IN ADMINISTR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RADITIONAL MODE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IMED AT INTERNALITY OF ADMINISTRATIVE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IGNORED EXTERNALITY OF DIFFERENT SYSTE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UR SITU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D PEOPLE&lt; &gt;BA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D PEOPLE&lt; &gt;GOO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D PEOPLE&lt; &gt;BA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OOD PEOPLE&lt; &gt;GOO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UREAUCRACY IN NEW PUBLIC MANAGE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EREQUISI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 T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 – TECHNOLOGY UPGRAD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- TECHNIQUES OF MANAGE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O ENSURE -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UREAUCRACY IN NEW PUBLIC MANAGE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 - TRAIN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 - TRANSPAREN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 D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 -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 - DELEG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UREAUCRACY IN NEW PUBLIC MANAGE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 – DEMOCRATISATION O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DMINISTRATIVE POWER e.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PRIVAT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SIMPL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REMOVING DEL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 – DEBUREAUCRATIS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MINISTRATIVE 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HISTORICAL PERSP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IGNIFICANT MILEST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4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YYANGAR COMMITTE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ORGANISATION OF MACHINE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UBLIC ADMINIST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DEALS WITH WIDE VARIETY OF MAT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CCOMMODATE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DMINISTRATIVE ACTIVITIES OF THE ST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LINKAGE WITH THE EXECUTIVE BRAN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XPANDING/CHANGING WITH TI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DMINISTRATION &amp; MANAG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YYANGAR COMMITTEE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EATER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FECTIVEN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SIVEN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5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GOLWA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OLWALA REPORT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LE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FFIC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PARTIAL ADMINISTR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UL H. APPLEBY’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53 – PUBLIC ADMINISTRATION 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DIA: REPORT OF A SURV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56 – RE-EXAMINATION O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DIA’S ADMINISTAR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YST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JOR RECOMMEND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TTING UP OF INDIAN INSTITU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BLIC ADMINISTRATION (IIP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ROVING RECORDS AND FI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5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S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ETHODS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[O &amp; M DIVISION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 CABINET SECRETARI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 &amp; M CEL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T U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ACH MINIST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 &amp; M DIVIS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IM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MPROVEMENT IN PUBLIC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OCATE PROBLEM AREA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UGGEST REMEDI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NTRIBUTIONS OF O&amp;M DIV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ELEGATION OF POWER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NTRODUCE CONCEPT OF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ERSONAL DISCUSSION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NSTEAD OF FILE PUSHIN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TANDING GUARD FILE –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ED TO REDUCE DEL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RINTED REPORTS OF GOV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HOULD BE EASILY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VAILABLE TO PUBLIC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TROLS OVER PUBLIC ADMINISTR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EGISLATIVE CONTROL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UDGET DISCUSSION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QUESTION HOUR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ZERO HOUR DISCUSSION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TION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BATES – Issues &amp; Legisl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RLIAMENTARY COMMITTE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D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RING OUT MANUAL OF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FFICE PROCEDUR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IMPLIFICATION OF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ROCEDUR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RAINING ACTIVITI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6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ANTHANAM COMMITTE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O LOOK INT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ROBLEM OF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RRUP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ANTHANAM COMMITTE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6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ENTRAL VIGILAN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M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T U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6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EPARTMENT OF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DMINISTRATIVE REFORMS SET U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6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DMINISTRATIVE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FORMS COM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T U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ARC]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7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RC REPOR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RC RECOMMENDATIO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CHINERY OF GOVT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ND PROCEDURE OF WORK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ERSONNEL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DMINISTRATIO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TATE ADMINISTRATIO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CHINERY FOR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LANNI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TROLS OVER PUBLIC ADMINISTR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ECUTIVE CONTRO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ECTIVE RESPONSIBILITY OF COUNCIL OF MINISTERS TO LOK SABH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 CIVIL SERVI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OINTMENT &amp; REMOV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DGET &amp; FINANCIAL CONTRO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ENTRE-STATE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LATIONSHIP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DRESS OF PUBL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RIEVANC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8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PARAT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INISTRY OF PERSONNEL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UBLIC GRIEVANCES &amp;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ENSIO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VERN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act or manner of governing or the way of control; (Dictionary meaning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process by which decisions are made and implemented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ontexts: corporate governance, national governance, local governance, international governance etc.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overnment is one of the actor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VERN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ivil Society has emerged as a powerful, influential actor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ivil Society may include NGOs, Research/ Financial Institutes, Media, Education Providers, Assn of peasants, Lobbyists, Cooperatives, Industries, Multinational Corporations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ivil Society in Rural /Urban areas -differen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4"/>
          <p:cNvSpPr/>
          <p:nvPr/>
        </p:nvSpPr>
        <p:spPr>
          <a:xfrm>
            <a:off x="2136240" y="3808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ABILITY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429000" y="1085760"/>
            <a:ext cx="213372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LI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581280" y="2533680"/>
            <a:ext cx="17528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N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581280" y="3981600"/>
            <a:ext cx="167652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IN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429000" y="5353200"/>
            <a:ext cx="1981080" cy="990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6629400" y="5429160"/>
            <a:ext cx="121932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685800" y="5353200"/>
            <a:ext cx="16002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6324480" y="4210200"/>
            <a:ext cx="19814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6095880" y="2990880"/>
            <a:ext cx="24386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MBUD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1066680" y="3981600"/>
            <a:ext cx="9144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5641920" y="565776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15"/>
          <p:cNvSpPr/>
          <p:nvPr/>
        </p:nvSpPr>
        <p:spPr>
          <a:xfrm>
            <a:off x="2441520" y="5581800"/>
            <a:ext cx="68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2290680" y="42102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 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4194000" y="48196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4194000" y="35244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19"/>
          <p:cNvSpPr/>
          <p:nvPr/>
        </p:nvSpPr>
        <p:spPr>
          <a:xfrm>
            <a:off x="4194000" y="20001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7013880" y="2000160"/>
            <a:ext cx="4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21"/>
          <p:cNvSpPr/>
          <p:nvPr/>
        </p:nvSpPr>
        <p:spPr>
          <a:xfrm>
            <a:off x="6176880" y="1314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 &lt; 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OD GOVERN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pends on the efficient functioning of Executive, Legislature, Judiciary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ponsive, Accountable, Transparent, Decentralised, People friendly, Citizen- centric Administration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nvolves active participation of people with Government in policy making, planning, implementation and monitor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4"/>
          <p:cNvSpPr/>
          <p:nvPr/>
        </p:nvSpPr>
        <p:spPr>
          <a:xfrm>
            <a:off x="2590920" y="2286000"/>
            <a:ext cx="4190760" cy="1523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O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3587760" y="9144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768240" y="175248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566760" y="18288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383040" y="2438280"/>
            <a:ext cx="20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TA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SU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318960" y="365760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3424320" y="47242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6847920" y="373392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7047360" y="2590920"/>
            <a:ext cx="19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GOOD GOVERN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RESENT THRUST 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SPONSIVE ADM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ITIZEN FRIENDLY GOV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MPOWERMENT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CCOUNTABILIT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ITIZEN FRIENDLY GOV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TROLS OVER PUBLIC ADMINISTR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UDICIAL CONTR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ONS – Constitutional &amp; as per law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USE OF POWE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CK OF JURISDIC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CEDURAL ERR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ROR OF LAW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RORS IN FACT-FIN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ITIZENS’ CHART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TANDARD OF SERVI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IME LIMI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ITIZENS &amp; CONSUMER GROUP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UBLIC GRIEVANC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VIEW OF LAWS, REGUL-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TIONS, PROCEDUR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INGLE WINDOW CONCEP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ECENTRALISA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EVOLU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ANCHAYAT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RANSPARENC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IGHT TO INFORMA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NTEGRITY OF PUBLIC SERVIC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ACKLE CORRUP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. R. C.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OOD GOVERNANCE &amp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TIZEN CENTRIC ADMINIST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EREQUISI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ound legal framewor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obust institutional mechanism for proper implementation of laws &amp; their effective functioning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. R. C.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petent personnel staffing these institutions &amp; sound personnel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 policies for decentralization,     delegation &amp; accountabilit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. R. C.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RE PRINCIPLES FOR MAK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OVERNMENT CITIZEN CENTR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ule of law – Zero tolerance strateg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king institutions vibrant, responsive &amp; accountabl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ecentraliz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ransparenc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. R. C.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vil Services Reform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thics in Governmen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cess Refor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RIVATE &amp; PUBLIC ADMINIST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IMILARITI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CCOUNTABILIT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UBLIC SCRUTIN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IMPARTIALIT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LEGAL FRAMEWOR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RULES &amp; PROCEDUR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RC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-GOVERN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uilding a congenial environment – will to chang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dentification of e-governance projects &amp; prioritis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usiness Process Re-engineer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nalysi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View points of stake holders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Simplific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Review of forms, processes &amp; struct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RC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pacity Building &amp; Creating Awarenes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ofessional Skills Developmen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plement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Up-dating websit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Structural Analysis – Step by step analysis in complex project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RC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nitoring &amp; Evalu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Involving Independent Agenci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blic-Private Partnershi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Transparent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RC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ssion Mode Projec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Computerisation of Land Record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assport &amp; Vis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Unique National Identification Number &amp; Car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egal Framework for e-governan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Knowledge Manag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THANK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YOU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RIVATE &amp; PUBLIC ADMINIST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OFIT MOTIV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NATURE OF TASKS PERFORMED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FINANCIAL CONTROL – External in Public Administr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MONOPOLY – In certain ar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PUBLIC MANA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NTREPRENEURISM IN GOVERNM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OVIDE COMPETITION BETWEEN SERVICE PROVID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MPOWER CITIZE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USH CONTROL OU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ERFORMANCE JUDGED BY OUTCOMES; NOT INPU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8:06:43Z</dcterms:created>
  <dc:creator>Impact Academy of Training and Consultancy</dc:creator>
  <dc:description/>
  <dc:language>en-US</dc:language>
  <cp:lastModifiedBy>jmd</cp:lastModifiedBy>
  <dcterms:modified xsi:type="dcterms:W3CDTF">2014-03-10T17:55:46Z</dcterms:modified>
  <cp:revision>165</cp:revision>
  <dc:subject/>
  <dc:title>PUBLIC ADMINISTRATION</dc:title>
</cp:coreProperties>
</file>